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B53A-6FA5-40A1-AFE8-0689FEF103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8677-70ED-4CE5-A940-366502B230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4155-8577-4B9E-ABCC-D3DB9E6A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009-995B-48D6-AFD1-D908B302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3E8-88B8-4A93-9E4B-A0DEAF4D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E42-7E50-4B67-BF34-52DB43A1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EFBA-8D5C-4566-B5A0-C0D8B1A6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334A-07FB-47ED-AC0E-64CBAF27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B7EB-CD7A-4420-8E1E-5163AD39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8607-CDF8-4311-B079-B7FE7478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8B0B-EC9F-4049-B282-B4037DCB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79B9-241F-4E45-AC61-09FE9409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DFF8-1CBB-4590-BBBD-A984E663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DC2-B99B-4B1A-B0C8-DB739E2D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C25C-EA7C-424F-8DCD-C5AF89C5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F6EB-DFB9-4569-ABA6-DA5D740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A044-B49C-4EC7-B92A-BF801E9A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8DFF-8DC4-49BC-BABD-46F63B5B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8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6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8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6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CD09-30D4-444E-A152-0C1AB5D0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810-DBB0-4827-907D-D2F78300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4841-881B-4052-A035-1236F153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510-DB29-4BA4-98E7-11582B53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172-E567-4DA8-98BD-4EE20A31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215-7518-49C0-895B-F1A53E4C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6BA-C77B-410D-A512-2A86AC9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8804-ED4F-44D1-AA96-1BF9EEA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52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791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6"/>
          <p:cNvSpPr/>
          <p:nvPr/>
        </p:nvSpPr>
        <p:spPr>
          <a:xfrm>
            <a:off x="1258920" y="1484280"/>
            <a:ext cx="6840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1</a:t>
            </a: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學年度金山高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第一學期期初校務會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00cc"/>
                </a:solidFill>
                <a:latin typeface="Times New Roman"/>
              </a:rPr>
              <a:t>林美真   </a:t>
            </a:r>
            <a:r>
              <a:rPr b="1" lang="en-US" sz="4400" spc="-1" strike="noStrike">
                <a:solidFill>
                  <a:srgbClr val="6600cc"/>
                </a:solidFill>
                <a:latin typeface="Times New Roman"/>
              </a:rPr>
              <a:t>10108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金山高中學習共同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687420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行政運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292720" y="566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環境建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35280" y="1125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專業教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258920" y="2060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課程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4184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社區資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187280" y="5516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家長參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3544920" y="288432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3656160" y="29941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6e6e8a"/>
              </a:gs>
              <a:gs pos="50000">
                <a:srgbClr val="ccccff"/>
              </a:gs>
              <a:gs pos="100000">
                <a:srgbClr val="6e6e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3652920" y="299736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8282a2"/>
              </a:gs>
              <a:gs pos="100000">
                <a:srgbClr val="cccc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3730680" y="306864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3751200" y="3087720"/>
            <a:ext cx="1290600" cy="1278000"/>
            <a:chOff x="3751200" y="3087720"/>
            <a:chExt cx="1290600" cy="1278000"/>
          </a:xfrm>
        </p:grpSpPr>
        <p:sp>
          <p:nvSpPr>
            <p:cNvPr id="114" name="Oval 14"/>
            <p:cNvSpPr/>
            <p:nvPr/>
          </p:nvSpPr>
          <p:spPr>
            <a:xfrm>
              <a:off x="3751200" y="308772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5"/>
            <p:cNvSpPr/>
            <p:nvPr/>
          </p:nvSpPr>
          <p:spPr>
            <a:xfrm>
              <a:off x="3767400" y="309456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6"/>
            <p:cNvSpPr/>
            <p:nvPr/>
          </p:nvSpPr>
          <p:spPr>
            <a:xfrm>
              <a:off x="3781080" y="310716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3850920" y="313956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8"/>
          <p:cNvGrpSpPr/>
          <p:nvPr/>
        </p:nvGrpSpPr>
        <p:grpSpPr>
          <a:xfrm>
            <a:off x="3635280" y="2852640"/>
            <a:ext cx="1703520" cy="1687680"/>
            <a:chOff x="3635280" y="2852640"/>
            <a:chExt cx="1703520" cy="1687680"/>
          </a:xfrm>
        </p:grpSpPr>
        <p:sp>
          <p:nvSpPr>
            <p:cNvPr id="119" name="Oval 19"/>
            <p:cNvSpPr/>
            <p:nvPr/>
          </p:nvSpPr>
          <p:spPr>
            <a:xfrm>
              <a:off x="3635280" y="285264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cccc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0"/>
            <p:cNvSpPr/>
            <p:nvPr/>
          </p:nvSpPr>
          <p:spPr>
            <a:xfrm>
              <a:off x="3681360" y="3327480"/>
              <a:ext cx="160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cc0000"/>
                  </a:solidFill>
                  <a:latin typeface="Arial"/>
                  <a:ea typeface="華康儷特圓"/>
                </a:rPr>
                <a:t>學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cc0000"/>
                  </a:solidFill>
                  <a:latin typeface="Arial"/>
                  <a:ea typeface="華康儷特圓"/>
                </a:rPr>
                <a:t>學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45"/>
          <p:cNvGrpSpPr/>
          <p:nvPr/>
        </p:nvGrpSpPr>
        <p:grpSpPr>
          <a:xfrm>
            <a:off x="2340000" y="1773360"/>
            <a:ext cx="4103640" cy="3960720"/>
            <a:chOff x="2340000" y="1773360"/>
            <a:chExt cx="4103640" cy="3960720"/>
          </a:xfrm>
        </p:grpSpPr>
        <p:sp>
          <p:nvSpPr>
            <p:cNvPr id="122" name="Oval 22"/>
            <p:cNvSpPr/>
            <p:nvPr/>
          </p:nvSpPr>
          <p:spPr>
            <a:xfrm>
              <a:off x="2700360" y="1989000"/>
              <a:ext cx="3743280" cy="3745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3"/>
            <p:cNvGrpSpPr/>
            <p:nvPr/>
          </p:nvGrpSpPr>
          <p:grpSpPr>
            <a:xfrm>
              <a:off x="2340000" y="3756600"/>
              <a:ext cx="1246320" cy="555120"/>
              <a:chOff x="2340000" y="3756600"/>
              <a:chExt cx="1246320" cy="555120"/>
            </a:xfrm>
          </p:grpSpPr>
          <p:sp>
            <p:nvSpPr>
              <p:cNvPr id="124" name="AutoShape 24"/>
              <p:cNvSpPr/>
              <p:nvPr/>
            </p:nvSpPr>
            <p:spPr>
              <a:xfrm rot="9911400">
                <a:off x="2700000" y="3861720"/>
                <a:ext cx="863640" cy="289080"/>
              </a:xfrm>
              <a:prstGeom prst="rightArrow">
                <a:avLst>
                  <a:gd name="adj1" fmla="val 35167"/>
                  <a:gd name="adj2" fmla="val 120982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25"/>
              <p:cNvSpPr/>
              <p:nvPr/>
            </p:nvSpPr>
            <p:spPr>
              <a:xfrm>
                <a:off x="2340000" y="400680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26"/>
            <p:cNvGrpSpPr/>
            <p:nvPr/>
          </p:nvGrpSpPr>
          <p:grpSpPr>
            <a:xfrm>
              <a:off x="2771640" y="2422440"/>
              <a:ext cx="1094760" cy="912600"/>
              <a:chOff x="2771640" y="2422440"/>
              <a:chExt cx="1094760" cy="912600"/>
            </a:xfrm>
          </p:grpSpPr>
          <p:sp>
            <p:nvSpPr>
              <p:cNvPr id="127" name="AutoShape 27"/>
              <p:cNvSpPr/>
              <p:nvPr/>
            </p:nvSpPr>
            <p:spPr>
              <a:xfrm rot="12773400">
                <a:off x="3059280" y="285408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Oval 28"/>
              <p:cNvSpPr/>
              <p:nvPr/>
            </p:nvSpPr>
            <p:spPr>
              <a:xfrm>
                <a:off x="2771640" y="242244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29"/>
            <p:cNvGrpSpPr/>
            <p:nvPr/>
          </p:nvGrpSpPr>
          <p:grpSpPr>
            <a:xfrm>
              <a:off x="3200400" y="4425480"/>
              <a:ext cx="901800" cy="1134000"/>
              <a:chOff x="3200400" y="4425480"/>
              <a:chExt cx="901800" cy="1134000"/>
            </a:xfrm>
          </p:grpSpPr>
          <p:sp>
            <p:nvSpPr>
              <p:cNvPr id="130" name="AutoShape 30"/>
              <p:cNvSpPr/>
              <p:nvPr/>
            </p:nvSpPr>
            <p:spPr>
              <a:xfrm rot="7534800">
                <a:off x="3358080" y="468720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Oval 31"/>
              <p:cNvSpPr/>
              <p:nvPr/>
            </p:nvSpPr>
            <p:spPr>
              <a:xfrm>
                <a:off x="3200400" y="525456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32"/>
            <p:cNvGrpSpPr/>
            <p:nvPr/>
          </p:nvGrpSpPr>
          <p:grpSpPr>
            <a:xfrm>
              <a:off x="4725360" y="4413240"/>
              <a:ext cx="727560" cy="1122480"/>
              <a:chOff x="4725360" y="4413240"/>
              <a:chExt cx="727560" cy="1122480"/>
            </a:xfrm>
          </p:grpSpPr>
          <p:sp>
            <p:nvSpPr>
              <p:cNvPr id="133" name="AutoShape 33"/>
              <p:cNvSpPr/>
              <p:nvPr/>
            </p:nvSpPr>
            <p:spPr>
              <a:xfrm rot="4123800">
                <a:off x="4607280" y="4690080"/>
                <a:ext cx="792000" cy="289080"/>
              </a:xfrm>
              <a:prstGeom prst="rightArrow">
                <a:avLst>
                  <a:gd name="adj1" fmla="val 35167"/>
                  <a:gd name="adj2" fmla="val 110946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Oval 34"/>
              <p:cNvSpPr/>
              <p:nvPr/>
            </p:nvSpPr>
            <p:spPr>
              <a:xfrm>
                <a:off x="5148360" y="523080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AutoShape 35"/>
            <p:cNvSpPr/>
            <p:nvPr/>
          </p:nvSpPr>
          <p:spPr>
            <a:xfrm rot="301200">
              <a:off x="5219280" y="38620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0808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36"/>
            <p:cNvGrpSpPr/>
            <p:nvPr/>
          </p:nvGrpSpPr>
          <p:grpSpPr>
            <a:xfrm>
              <a:off x="4939200" y="2422440"/>
              <a:ext cx="1017000" cy="950760"/>
              <a:chOff x="4939200" y="2422440"/>
              <a:chExt cx="1017000" cy="950760"/>
            </a:xfrm>
          </p:grpSpPr>
          <p:sp>
            <p:nvSpPr>
              <p:cNvPr id="137" name="AutoShape 37"/>
              <p:cNvSpPr/>
              <p:nvPr/>
            </p:nvSpPr>
            <p:spPr>
              <a:xfrm rot="19041000">
                <a:off x="4932000" y="285408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Oval 38"/>
              <p:cNvSpPr/>
              <p:nvPr/>
            </p:nvSpPr>
            <p:spPr>
              <a:xfrm>
                <a:off x="5651640" y="242244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Oval 39"/>
            <p:cNvSpPr/>
            <p:nvPr/>
          </p:nvSpPr>
          <p:spPr>
            <a:xfrm>
              <a:off x="6084720" y="4006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9ce6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Group 40"/>
            <p:cNvGrpSpPr/>
            <p:nvPr/>
          </p:nvGrpSpPr>
          <p:grpSpPr>
            <a:xfrm>
              <a:off x="4140360" y="1773360"/>
              <a:ext cx="393120" cy="1163160"/>
              <a:chOff x="4140360" y="1773360"/>
              <a:chExt cx="393120" cy="1163160"/>
            </a:xfrm>
          </p:grpSpPr>
          <p:sp>
            <p:nvSpPr>
              <p:cNvPr id="141" name="Oval 41"/>
              <p:cNvSpPr/>
              <p:nvPr/>
            </p:nvSpPr>
            <p:spPr>
              <a:xfrm>
                <a:off x="4140360" y="1773360"/>
                <a:ext cx="304560" cy="30456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42"/>
              <p:cNvSpPr/>
              <p:nvPr/>
            </p:nvSpPr>
            <p:spPr>
              <a:xfrm rot="15911400">
                <a:off x="3960000" y="2385000"/>
                <a:ext cx="792000" cy="289080"/>
              </a:xfrm>
              <a:prstGeom prst="rightArrow">
                <a:avLst>
                  <a:gd name="adj1" fmla="val 36833"/>
                  <a:gd name="adj2" fmla="val 108232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Text Box 43"/>
          <p:cNvSpPr/>
          <p:nvPr/>
        </p:nvSpPr>
        <p:spPr>
          <a:xfrm>
            <a:off x="6445080" y="19890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學習領導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63640" y="1052280"/>
            <a:ext cx="6696000" cy="2881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参部曲</a:t>
            </a:r>
            <a:r>
              <a:rPr b="1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大挑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時間：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劇情：金山高中</a:t>
            </a:r>
            <a:r>
              <a:rPr b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3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5076720" y="4149720"/>
            <a:ext cx="3743280" cy="1800360"/>
          </a:xfrm>
          <a:prstGeom prst="wedgeRoundRectCallout">
            <a:avLst>
              <a:gd name="adj1" fmla="val -6189"/>
              <a:gd name="adj2" fmla="val -10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0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線上生產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服務至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3.0 </a:t>
            </a:r>
            <a:r>
              <a:rPr b="1" lang="zh-TW" sz="3600" spc="-1" strike="noStrike">
                <a:solidFill>
                  <a:srgbClr val="cc0000"/>
                </a:solidFill>
                <a:latin typeface="Times New Roman"/>
              </a:rPr>
              <a:t>共創價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360" y="691920"/>
            <a:ext cx="5669280" cy="11430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挑戰</a:t>
            </a:r>
            <a:r>
              <a:rPr b="1" lang="en-US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10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35280" y="2205000"/>
            <a:ext cx="6767280" cy="3384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、落實教育局視導十大重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、執行重要專案計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、擬定金山高中校務發展計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01</a:t>
            </a:r>
            <a:r>
              <a:rPr b="1" lang="zh-TW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學年度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新北市政府教育局</a:t>
            </a:r>
            <a:r>
              <a:rPr b="1" lang="zh-TW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十大重點視導項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32000" y="1125360"/>
          <a:ext cx="7561080" cy="5303880"/>
        </p:xfrm>
        <a:graphic>
          <a:graphicData uri="http://schemas.openxmlformats.org/drawingml/2006/table">
            <a:tbl>
              <a:tblPr/>
              <a:tblGrid>
                <a:gridCol w="1008000"/>
                <a:gridCol w="65530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一般教學情形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常態編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校園巡堂紀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友善校園學生事務與輔導工作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五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建物安全檢查與防災演練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六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午餐衛生與校園食品安全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水域安全及防溺宣導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攜手計畫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維護校園安全暨防制藥物濫用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學校特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66"/>
                    </a:solidFill>
                  </a:tcPr>
                </a:tc>
              </a:tr>
            </a:tbl>
          </a:graphicData>
        </a:graphic>
      </p:graphicFrame>
      <p:sp>
        <p:nvSpPr>
          <p:cNvPr id="150" name="plant"/>
          <p:cNvSpPr/>
          <p:nvPr/>
        </p:nvSpPr>
        <p:spPr>
          <a:xfrm>
            <a:off x="7740720" y="1052640"/>
            <a:ext cx="1008000" cy="688680"/>
          </a:xfrm>
          <a:custGeom>
            <a:avLst/>
            <a:gdLst>
              <a:gd name="textAreaLeft" fmla="*/ 331200 w 1008000"/>
              <a:gd name="textAreaRight" fmla="*/ 678960 w 1008000"/>
              <a:gd name="textAreaTop" fmla="*/ 321840 h 688680"/>
              <a:gd name="textAreaBottom" fmla="*/ 432720 h 6886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35"/>
          <p:cNvGrpSpPr/>
          <p:nvPr/>
        </p:nvGrpSpPr>
        <p:grpSpPr>
          <a:xfrm>
            <a:off x="1619280" y="1413000"/>
            <a:ext cx="6984720" cy="5444640"/>
            <a:chOff x="1619280" y="1413000"/>
            <a:chExt cx="6984720" cy="5444640"/>
          </a:xfrm>
        </p:grpSpPr>
        <p:sp>
          <p:nvSpPr>
            <p:cNvPr id="152" name="Puzzle3"/>
            <p:cNvSpPr/>
            <p:nvPr/>
          </p:nvSpPr>
          <p:spPr>
            <a:xfrm>
              <a:off x="5020560" y="1413000"/>
              <a:ext cx="2745360" cy="2893320"/>
            </a:xfrm>
            <a:custGeom>
              <a:avLst/>
              <a:gdLst>
                <a:gd name="textAreaLeft" fmla="*/ 288360 w 2745360"/>
                <a:gd name="textAreaRight" fmla="*/ 2435040 w 2745360"/>
                <a:gd name="textAreaTop" fmla="*/ 1033920 h 2893320"/>
                <a:gd name="textAreaBottom" fmla="*/ 2710080 h 289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Puzzle2"/>
            <p:cNvSpPr/>
            <p:nvPr/>
          </p:nvSpPr>
          <p:spPr>
            <a:xfrm>
              <a:off x="4222080" y="3520800"/>
              <a:ext cx="4381920" cy="2635200"/>
            </a:xfrm>
            <a:custGeom>
              <a:avLst/>
              <a:gdLst>
                <a:gd name="textAreaLeft" fmla="*/ 1094040 w 4381920"/>
                <a:gd name="textAreaRight" fmla="*/ 3282840 w 4381920"/>
                <a:gd name="textAreaTop" fmla="*/ 821520 h 2635200"/>
                <a:gd name="textAreaBottom" fmla="*/ 2494080 h 26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Puzzle4"/>
            <p:cNvSpPr/>
            <p:nvPr/>
          </p:nvSpPr>
          <p:spPr>
            <a:xfrm>
              <a:off x="2526120" y="3488400"/>
              <a:ext cx="2641680" cy="3369240"/>
            </a:xfrm>
            <a:custGeom>
              <a:avLst/>
              <a:gdLst>
                <a:gd name="textAreaLeft" fmla="*/ 253800 w 2641680"/>
                <a:gd name="textAreaRight" fmla="*/ 2471760 w 2641680"/>
                <a:gd name="textAreaTop" fmla="*/ 882720 h 3369240"/>
                <a:gd name="textAreaBottom" fmla="*/ 2491920 h 336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Puzzle1"/>
            <p:cNvSpPr/>
            <p:nvPr/>
          </p:nvSpPr>
          <p:spPr>
            <a:xfrm>
              <a:off x="1619280" y="2288160"/>
              <a:ext cx="4436640" cy="2008440"/>
            </a:xfrm>
            <a:custGeom>
              <a:avLst/>
              <a:gdLst>
                <a:gd name="textAreaLeft" fmla="*/ 1249560 w 4436640"/>
                <a:gd name="textAreaRight" fmla="*/ 3312720 w 4436640"/>
                <a:gd name="textAreaTop" fmla="*/ 238680 h 2008440"/>
                <a:gd name="textAreaBottom" fmla="*/ 1817640 h 200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十大重點視導項目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之落實推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1835280" y="4797360"/>
            <a:ext cx="237636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課程與教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580000" y="2421000"/>
            <a:ext cx="201636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擬定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5219640" y="4508640"/>
            <a:ext cx="208908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宣導、溝通與分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2556000" y="2852640"/>
            <a:ext cx="237636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檢討與成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619280" y="1341360"/>
            <a:ext cx="6821280" cy="41148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二、執行重要專案計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高中優質化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育局高中職旗艦計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育部技藝專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18920" y="907560"/>
            <a:ext cx="7056360" cy="5185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、擬定校務發展計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期程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~106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組織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成立委員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委員由校長邀請學校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社區相關代表，執行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書為總務主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會議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-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月雙周二或三放學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完成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寒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組織之全員參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87420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環境建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292720" y="566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領域需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3635280" y="1125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願景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258920" y="2060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課程發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04184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社區資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547640" y="551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家長參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3544920" y="288432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656160" y="29941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6e6e8a"/>
              </a:gs>
              <a:gs pos="50000">
                <a:srgbClr val="ccccff"/>
              </a:gs>
              <a:gs pos="100000">
                <a:srgbClr val="6e6e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652920" y="299736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8282a2"/>
              </a:gs>
              <a:gs pos="100000">
                <a:srgbClr val="cccc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3730680" y="306864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13"/>
          <p:cNvGrpSpPr/>
          <p:nvPr/>
        </p:nvGrpSpPr>
        <p:grpSpPr>
          <a:xfrm>
            <a:off x="3751200" y="3087720"/>
            <a:ext cx="1290600" cy="1278000"/>
            <a:chOff x="3751200" y="3087720"/>
            <a:chExt cx="1290600" cy="1278000"/>
          </a:xfrm>
        </p:grpSpPr>
        <p:sp>
          <p:nvSpPr>
            <p:cNvPr id="175" name="Oval 14"/>
            <p:cNvSpPr/>
            <p:nvPr/>
          </p:nvSpPr>
          <p:spPr>
            <a:xfrm>
              <a:off x="3751200" y="308772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Oval 15"/>
            <p:cNvSpPr/>
            <p:nvPr/>
          </p:nvSpPr>
          <p:spPr>
            <a:xfrm>
              <a:off x="3767400" y="309456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16"/>
            <p:cNvSpPr/>
            <p:nvPr/>
          </p:nvSpPr>
          <p:spPr>
            <a:xfrm>
              <a:off x="3781080" y="310716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7"/>
            <p:cNvSpPr/>
            <p:nvPr/>
          </p:nvSpPr>
          <p:spPr>
            <a:xfrm>
              <a:off x="3850920" y="313956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3635280" y="2852640"/>
            <a:ext cx="1703520" cy="1687680"/>
            <a:chOff x="3635280" y="2852640"/>
            <a:chExt cx="1703520" cy="1687680"/>
          </a:xfrm>
        </p:grpSpPr>
        <p:sp>
          <p:nvSpPr>
            <p:cNvPr id="180" name="Oval 19"/>
            <p:cNvSpPr/>
            <p:nvPr/>
          </p:nvSpPr>
          <p:spPr>
            <a:xfrm>
              <a:off x="3635280" y="285264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cccc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3681360" y="3327480"/>
              <a:ext cx="160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cc0000"/>
                  </a:solidFill>
                  <a:latin typeface="Arial"/>
                  <a:ea typeface="華康儷特圓"/>
                </a:rPr>
                <a:t>發展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3600" spc="-1" strike="noStrike">
                  <a:solidFill>
                    <a:srgbClr val="cc0000"/>
                  </a:solidFill>
                  <a:latin typeface="Arial"/>
                  <a:ea typeface="華康儷特圓"/>
                </a:rPr>
                <a:t>計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21"/>
          <p:cNvGrpSpPr/>
          <p:nvPr/>
        </p:nvGrpSpPr>
        <p:grpSpPr>
          <a:xfrm>
            <a:off x="2340000" y="1844640"/>
            <a:ext cx="4103640" cy="3960720"/>
            <a:chOff x="2340000" y="1844640"/>
            <a:chExt cx="4103640" cy="3960720"/>
          </a:xfrm>
        </p:grpSpPr>
        <p:sp>
          <p:nvSpPr>
            <p:cNvPr id="183" name="Oval 22"/>
            <p:cNvSpPr/>
            <p:nvPr/>
          </p:nvSpPr>
          <p:spPr>
            <a:xfrm>
              <a:off x="2700360" y="2060280"/>
              <a:ext cx="3743280" cy="3745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23"/>
            <p:cNvGrpSpPr/>
            <p:nvPr/>
          </p:nvGrpSpPr>
          <p:grpSpPr>
            <a:xfrm>
              <a:off x="2340000" y="3827880"/>
              <a:ext cx="1246320" cy="555120"/>
              <a:chOff x="2340000" y="3827880"/>
              <a:chExt cx="1246320" cy="555120"/>
            </a:xfrm>
          </p:grpSpPr>
          <p:sp>
            <p:nvSpPr>
              <p:cNvPr id="185" name="AutoShape 24"/>
              <p:cNvSpPr/>
              <p:nvPr/>
            </p:nvSpPr>
            <p:spPr>
              <a:xfrm rot="9911400">
                <a:off x="2700000" y="3933000"/>
                <a:ext cx="863640" cy="289080"/>
              </a:xfrm>
              <a:prstGeom prst="rightArrow">
                <a:avLst>
                  <a:gd name="adj1" fmla="val 35167"/>
                  <a:gd name="adj2" fmla="val 120982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25"/>
              <p:cNvSpPr/>
              <p:nvPr/>
            </p:nvSpPr>
            <p:spPr>
              <a:xfrm>
                <a:off x="2340000" y="40780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26"/>
            <p:cNvGrpSpPr/>
            <p:nvPr/>
          </p:nvGrpSpPr>
          <p:grpSpPr>
            <a:xfrm>
              <a:off x="2771640" y="2493720"/>
              <a:ext cx="1094760" cy="912600"/>
              <a:chOff x="2771640" y="2493720"/>
              <a:chExt cx="1094760" cy="912600"/>
            </a:xfrm>
          </p:grpSpPr>
          <p:sp>
            <p:nvSpPr>
              <p:cNvPr id="188" name="AutoShape 27"/>
              <p:cNvSpPr/>
              <p:nvPr/>
            </p:nvSpPr>
            <p:spPr>
              <a:xfrm rot="12773400">
                <a:off x="3059280" y="292536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28"/>
              <p:cNvSpPr/>
              <p:nvPr/>
            </p:nvSpPr>
            <p:spPr>
              <a:xfrm>
                <a:off x="2771640" y="249372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29"/>
            <p:cNvGrpSpPr/>
            <p:nvPr/>
          </p:nvGrpSpPr>
          <p:grpSpPr>
            <a:xfrm>
              <a:off x="3200400" y="4496760"/>
              <a:ext cx="901800" cy="1134000"/>
              <a:chOff x="3200400" y="4496760"/>
              <a:chExt cx="901800" cy="1134000"/>
            </a:xfrm>
          </p:grpSpPr>
          <p:sp>
            <p:nvSpPr>
              <p:cNvPr id="191" name="AutoShape 30"/>
              <p:cNvSpPr/>
              <p:nvPr/>
            </p:nvSpPr>
            <p:spPr>
              <a:xfrm rot="7534800">
                <a:off x="3358080" y="475848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31"/>
              <p:cNvSpPr/>
              <p:nvPr/>
            </p:nvSpPr>
            <p:spPr>
              <a:xfrm>
                <a:off x="3200400" y="532584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32"/>
            <p:cNvGrpSpPr/>
            <p:nvPr/>
          </p:nvGrpSpPr>
          <p:grpSpPr>
            <a:xfrm>
              <a:off x="4725360" y="4484520"/>
              <a:ext cx="727560" cy="1122480"/>
              <a:chOff x="4725360" y="4484520"/>
              <a:chExt cx="727560" cy="1122480"/>
            </a:xfrm>
          </p:grpSpPr>
          <p:sp>
            <p:nvSpPr>
              <p:cNvPr id="194" name="AutoShape 33"/>
              <p:cNvSpPr/>
              <p:nvPr/>
            </p:nvSpPr>
            <p:spPr>
              <a:xfrm rot="4123800">
                <a:off x="4607280" y="4761360"/>
                <a:ext cx="792000" cy="289080"/>
              </a:xfrm>
              <a:prstGeom prst="rightArrow">
                <a:avLst>
                  <a:gd name="adj1" fmla="val 35167"/>
                  <a:gd name="adj2" fmla="val 110946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Oval 34"/>
              <p:cNvSpPr/>
              <p:nvPr/>
            </p:nvSpPr>
            <p:spPr>
              <a:xfrm>
                <a:off x="5148360" y="53020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AutoShape 35"/>
            <p:cNvSpPr/>
            <p:nvPr/>
          </p:nvSpPr>
          <p:spPr>
            <a:xfrm rot="301200">
              <a:off x="5219280" y="39333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0808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Group 36"/>
            <p:cNvGrpSpPr/>
            <p:nvPr/>
          </p:nvGrpSpPr>
          <p:grpSpPr>
            <a:xfrm>
              <a:off x="4939200" y="2493720"/>
              <a:ext cx="1017000" cy="950760"/>
              <a:chOff x="4939200" y="2493720"/>
              <a:chExt cx="1017000" cy="950760"/>
            </a:xfrm>
          </p:grpSpPr>
          <p:sp>
            <p:nvSpPr>
              <p:cNvPr id="198" name="AutoShape 37"/>
              <p:cNvSpPr/>
              <p:nvPr/>
            </p:nvSpPr>
            <p:spPr>
              <a:xfrm rot="19041000">
                <a:off x="4932000" y="2925360"/>
                <a:ext cx="792000" cy="288720"/>
              </a:xfrm>
              <a:prstGeom prst="rightArrow">
                <a:avLst>
                  <a:gd name="adj1" fmla="val 35167"/>
                  <a:gd name="adj2" fmla="val 111084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Oval 38"/>
              <p:cNvSpPr/>
              <p:nvPr/>
            </p:nvSpPr>
            <p:spPr>
              <a:xfrm>
                <a:off x="5651640" y="249372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Oval 39"/>
            <p:cNvSpPr/>
            <p:nvPr/>
          </p:nvSpPr>
          <p:spPr>
            <a:xfrm>
              <a:off x="6084720" y="4078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9c9ce6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Group 40"/>
            <p:cNvGrpSpPr/>
            <p:nvPr/>
          </p:nvGrpSpPr>
          <p:grpSpPr>
            <a:xfrm>
              <a:off x="4140360" y="1844640"/>
              <a:ext cx="393120" cy="1163160"/>
              <a:chOff x="4140360" y="1844640"/>
              <a:chExt cx="393120" cy="1163160"/>
            </a:xfrm>
          </p:grpSpPr>
          <p:sp>
            <p:nvSpPr>
              <p:cNvPr id="202" name="Oval 41"/>
              <p:cNvSpPr/>
              <p:nvPr/>
            </p:nvSpPr>
            <p:spPr>
              <a:xfrm>
                <a:off x="4140360" y="1844640"/>
                <a:ext cx="304560" cy="304560"/>
              </a:xfrm>
              <a:prstGeom prst="ellipse">
                <a:avLst/>
              </a:prstGeom>
              <a:gradFill rotWithShape="0">
                <a:gsLst>
                  <a:gs pos="0">
                    <a:srgbClr val="9c9ce6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42"/>
              <p:cNvSpPr/>
              <p:nvPr/>
            </p:nvSpPr>
            <p:spPr>
              <a:xfrm rot="15911400">
                <a:off x="3960000" y="2456280"/>
                <a:ext cx="792000" cy="289080"/>
              </a:xfrm>
              <a:prstGeom prst="rightArrow">
                <a:avLst>
                  <a:gd name="adj1" fmla="val 36833"/>
                  <a:gd name="adj2" fmla="val 108232"/>
                </a:avLst>
              </a:prstGeom>
              <a:solidFill>
                <a:srgbClr val="808080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Text Box 43"/>
          <p:cNvSpPr/>
          <p:nvPr/>
        </p:nvSpPr>
        <p:spPr>
          <a:xfrm>
            <a:off x="6516360" y="19890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校務經營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微軟正黑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1196640"/>
            <a:ext cx="7886520" cy="4359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i="1" lang="zh-TW" sz="28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我們應做的準備</a:t>
            </a:r>
            <a:r>
              <a:rPr b="1" i="1" lang="en-US" sz="28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………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（一）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教育哲學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反璞歸真</a:t>
            </a:r>
            <a:br>
              <a:rPr sz="36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以學生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為中心 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著重培養學生「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如何學習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」勝於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「習得內容」。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提供學生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自我探索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、做選擇的能力</a:t>
            </a:r>
            <a:br>
              <a:rPr sz="5400"/>
            </a:b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4500720" y="5950080"/>
            <a:ext cx="35272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學習的革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172360" cy="540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br>
              <a:rPr sz="4400"/>
            </a:br>
            <a:r>
              <a:rPr b="0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i="1" lang="zh-TW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我們應做的準備</a:t>
            </a: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提升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專業知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教育部規劃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5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堂、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18</a:t>
            </a:r>
            <a:r>
              <a:rPr b="1" lang="zh-TW" sz="32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小時</a:t>
            </a:r>
            <a:r>
              <a:rPr b="0" lang="zh-TW" sz="32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的培訓課程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2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年國教理念與實施策略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學群科領域有效教學策略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差異化教學策略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學群科領域多元評量理念與應用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「適性輔導作法」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692000" y="980640"/>
            <a:ext cx="665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Times New Roman"/>
                <a:ea typeface="標楷體"/>
              </a:rPr>
              <a:t>金</a:t>
            </a:r>
            <a:r>
              <a:rPr b="1" lang="zh-TW" sz="6000" spc="-1" strike="noStrike">
                <a:solidFill>
                  <a:srgbClr val="006600"/>
                </a:solidFill>
                <a:latin typeface="Times New Roman"/>
                <a:ea typeface="標楷體"/>
              </a:rPr>
              <a:t>風修德化</a:t>
            </a:r>
            <a:r>
              <a:rPr b="1" lang="zh-TW" sz="6000" spc="-1" strike="noStrike">
                <a:solidFill>
                  <a:srgbClr val="000066"/>
                </a:solidFill>
                <a:latin typeface="Times New Roman"/>
                <a:ea typeface="標楷體"/>
              </a:rPr>
              <a:t>完人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66"/>
                </a:solidFill>
                <a:latin typeface="Times New Roman"/>
                <a:ea typeface="標楷體"/>
              </a:rPr>
              <a:t>山</a:t>
            </a:r>
            <a:r>
              <a:rPr b="1" lang="zh-TW" sz="6000" spc="-1" strike="noStrike">
                <a:solidFill>
                  <a:srgbClr val="006600"/>
                </a:solidFill>
                <a:latin typeface="Times New Roman"/>
                <a:ea typeface="標楷體"/>
              </a:rPr>
              <a:t>水明心啟</a:t>
            </a:r>
            <a:r>
              <a:rPr b="1" lang="zh-TW" sz="6000" spc="-1" strike="noStrike">
                <a:solidFill>
                  <a:srgbClr val="000066"/>
                </a:solidFill>
                <a:latin typeface="Times New Roman"/>
                <a:ea typeface="標楷體"/>
              </a:rPr>
              <a:t>全才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節錄自高中部會議室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    </a:t>
            </a:r>
            <a:r>
              <a:rPr b="1" i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美真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        </a:t>
            </a:r>
            <a:r>
              <a:rPr b="1" i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美夢成真</a:t>
            </a:r>
            <a:r>
              <a:rPr b="1" i="1" lang="zh-TW" sz="4000" spc="-1" strike="noStrike">
                <a:solidFill>
                  <a:srgbClr val="000066"/>
                </a:solidFill>
                <a:latin typeface="標楷體"/>
                <a:ea typeface="標楷體"/>
              </a:rPr>
              <a:t>参部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nt"/>
          <p:cNvSpPr/>
          <p:nvPr/>
        </p:nvSpPr>
        <p:spPr>
          <a:xfrm>
            <a:off x="4643280" y="4292640"/>
            <a:ext cx="1049400" cy="1049400"/>
          </a:xfrm>
          <a:custGeom>
            <a:avLst/>
            <a:gdLst>
              <a:gd name="textAreaLeft" fmla="*/ 344880 w 1049400"/>
              <a:gd name="textAreaRight" fmla="*/ 706680 w 1049400"/>
              <a:gd name="textAreaTop" fmla="*/ 490320 h 1049400"/>
              <a:gd name="textAreaBottom" fmla="*/ 659520 h 104940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63280" y="836640"/>
            <a:ext cx="8280360" cy="540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br>
              <a:rPr sz="2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1" i="1" lang="zh-TW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我們應做的準備</a:t>
            </a: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進行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校務與教學變革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檢視獎懲辦法合理性與執行程序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排、授課正常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新的成績評量準則及各領域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之多元評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補救教學的實施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扶弱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比拔尖更重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.PISA(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數學素養、閱讀素養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7772400" cy="4824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、推動十二年國民基本教育</a:t>
            </a:r>
            <a:br>
              <a:rPr sz="3600"/>
            </a:b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i="1" lang="zh-TW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我們應做的準備</a:t>
            </a:r>
            <a:r>
              <a:rPr b="1" i="1" lang="en-US" sz="3200" spc="-1" strike="noStrike" u="sng">
                <a:solidFill>
                  <a:srgbClr val="000066"/>
                </a:solidFill>
                <a:uFillTx/>
                <a:latin typeface="標楷體"/>
                <a:ea typeface="標楷體"/>
              </a:rPr>
              <a:t>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進行</a:t>
            </a:r>
            <a:r>
              <a:rPr b="1" lang="zh-TW" sz="3600" spc="-1" strike="noStrike">
                <a:solidFill>
                  <a:srgbClr val="cc0000"/>
                </a:solidFill>
                <a:latin typeface="標楷體"/>
                <a:ea typeface="標楷體"/>
              </a:rPr>
              <a:t>校務與教學變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服務學習的規劃與認證機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7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多元社團的開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8.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生涯輔導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記錄手冊的實施與運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9.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學校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特色課程發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.</a:t>
            </a:r>
            <a:r>
              <a:rPr b="1" lang="zh-TW" sz="3200" spc="-1" strike="noStrike">
                <a:solidFill>
                  <a:srgbClr val="cc0000"/>
                </a:solidFill>
                <a:latin typeface="標楷體"/>
                <a:ea typeface="標楷體"/>
              </a:rPr>
              <a:t>優質高中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認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258920" y="981000"/>
            <a:ext cx="7128000" cy="1657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</a:t>
            </a: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甘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  <a:ea typeface="標楷體"/>
              </a:rPr>
              <a:t>BE THE CH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258920" y="2924280"/>
            <a:ext cx="7128000" cy="1296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標楷體"/>
              </a:rPr>
              <a:t>inspire   not  tea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1979640" y="4653000"/>
            <a:ext cx="3743280" cy="1512720"/>
          </a:xfrm>
          <a:prstGeom prst="wedgeRoundRectCallout">
            <a:avLst>
              <a:gd name="adj1" fmla="val -6189"/>
              <a:gd name="adj2" fmla="val -1173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124000" y="4797360"/>
            <a:ext cx="42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Times New Roman"/>
              </a:rPr>
              <a:t>倫敦奧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spire  a 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186920" y="1412640"/>
            <a:ext cx="766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在</a:t>
            </a:r>
            <a:r>
              <a:rPr b="1" lang="en-US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年國教的洪流中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確保金山</a:t>
            </a:r>
            <a:r>
              <a:rPr b="1" lang="zh-TW" sz="3600" spc="-1" strike="noStrike">
                <a:solidFill>
                  <a:srgbClr val="800000"/>
                </a:solidFill>
                <a:latin typeface="標楷體"/>
                <a:ea typeface="標楷體"/>
              </a:rPr>
              <a:t>每一個學子的學習</a:t>
            </a: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標楷體"/>
                <a:ea typeface="標楷體"/>
              </a:rPr>
              <a:t>是我們共同的責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cc"/>
                </a:solidFill>
                <a:latin typeface="標楷體"/>
                <a:ea typeface="標楷體"/>
              </a:rPr>
              <a:t>      </a:t>
            </a:r>
            <a:r>
              <a:rPr b="1" lang="en-US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~~~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我們一起加油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               </a:t>
            </a:r>
            <a:r>
              <a:rPr b="1" lang="zh-TW" sz="4800" spc="-1" strike="noStrike">
                <a:solidFill>
                  <a:srgbClr val="800000"/>
                </a:solidFill>
                <a:latin typeface="標楷體"/>
                <a:ea typeface="標楷體"/>
              </a:rPr>
              <a:t>感恩您！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42920" y="1197000"/>
            <a:ext cx="7772400" cy="4114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首部曲</a:t>
            </a:r>
            <a:r>
              <a:rPr b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4400" spc="-1" strike="noStrike">
                <a:solidFill>
                  <a:srgbClr val="000066"/>
                </a:solidFill>
                <a:latin typeface="標楷體"/>
                <a:ea typeface="標楷體"/>
              </a:rPr>
              <a:t>薪火相傳</a:t>
            </a: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4400" spc="-1" strike="noStrike">
                <a:solidFill>
                  <a:srgbClr val="008000"/>
                </a:solidFill>
                <a:latin typeface="標楷體"/>
                <a:ea typeface="標楷體"/>
              </a:rPr>
              <a:t>國泰民安</a:t>
            </a:r>
            <a:r>
              <a:rPr b="1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到</a:t>
            </a:r>
            <a:r>
              <a:rPr b="1" lang="zh-TW" sz="4400" spc="-1" strike="noStrike">
                <a:solidFill>
                  <a:srgbClr val="cc0000"/>
                </a:solidFill>
                <a:latin typeface="標楷體"/>
                <a:ea typeface="標楷體"/>
              </a:rPr>
              <a:t>美夢成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時間：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8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劇情：感恩與傳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86920" y="1197000"/>
            <a:ext cx="6193080" cy="100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Times New Roman"/>
                <a:ea typeface="標楷體"/>
              </a:rPr>
              <a:t>感恩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昨日輝映今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校長交接典禮274"/>
          <p:cNvPicPr/>
          <p:nvPr/>
        </p:nvPicPr>
        <p:blipFill>
          <a:blip r:embed="rId1"/>
          <a:stretch/>
        </p:blipFill>
        <p:spPr>
          <a:xfrm>
            <a:off x="1643040" y="2166840"/>
            <a:ext cx="3745080" cy="2809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校長交接典禮322"/>
          <p:cNvPicPr/>
          <p:nvPr/>
        </p:nvPicPr>
        <p:blipFill>
          <a:blip r:embed="rId2"/>
          <a:stretch/>
        </p:blipFill>
        <p:spPr>
          <a:xfrm>
            <a:off x="5364000" y="4149720"/>
            <a:ext cx="280836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1187280" y="1197000"/>
            <a:ext cx="6193080" cy="1079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0000"/>
                </a:solidFill>
                <a:latin typeface="Times New Roman"/>
              </a:rPr>
              <a:t>傳承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~~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今日締造明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校長交接典禮039"/>
          <p:cNvPicPr/>
          <p:nvPr/>
        </p:nvPicPr>
        <p:blipFill>
          <a:blip r:embed="rId1"/>
          <a:stretch/>
        </p:blipFill>
        <p:spPr>
          <a:xfrm>
            <a:off x="2843280" y="234936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47280" y="1916280"/>
            <a:ext cx="6985080" cy="3394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貳部曲</a:t>
            </a:r>
            <a:r>
              <a:rPr b="1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1" lang="zh-TW" sz="4400" spc="-1" strike="noStrike">
                <a:solidFill>
                  <a:srgbClr val="cc0000"/>
                </a:solidFill>
                <a:latin typeface="標楷體"/>
                <a:ea typeface="標楷體"/>
              </a:rPr>
              <a:t>感恩共結善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時間：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r>
              <a:rPr b="1" lang="en-US" sz="4400" spc="-1" strike="noStrike">
                <a:solidFill>
                  <a:srgbClr val="cc0000"/>
                </a:solidFill>
                <a:latin typeface="標楷體"/>
                <a:ea typeface="標楷體"/>
              </a:rPr>
              <a:t>~~~~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劇情：學習共同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981000"/>
            <a:ext cx="7345440" cy="5013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金山高中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因為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孩子們的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br>
              <a:rPr sz="4800"/>
            </a:b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   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讓我們共同在這裡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這些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學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3040" y="765000"/>
            <a:ext cx="8400960" cy="5229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與</a:t>
            </a:r>
            <a:r>
              <a:rPr b="1" lang="zh-TW" sz="48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專家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共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結善緣：</a:t>
            </a:r>
            <a:br>
              <a:rPr sz="4800"/>
            </a:b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學校是一個學習的地方，</a:t>
            </a:r>
            <a:br>
              <a:rPr sz="4800"/>
            </a:b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成人們</a:t>
            </a:r>
            <a:r>
              <a:rPr b="1" lang="zh-TW" sz="4800" spc="-1" strike="noStrike">
                <a:solidFill>
                  <a:srgbClr val="cc0000"/>
                </a:solidFill>
                <a:latin typeface="標楷體"/>
                <a:ea typeface="標楷體"/>
              </a:rPr>
              <a:t>學習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並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協助孩子學習。</a:t>
            </a:r>
            <a:br>
              <a:rPr sz="4800"/>
            </a:b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----</a:t>
            </a:r>
            <a:r>
              <a:rPr b="0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感恩有</a:t>
            </a:r>
            <a:r>
              <a:rPr b="1" lang="zh-TW" sz="6000" spc="-1" strike="noStrike">
                <a:solidFill>
                  <a:srgbClr val="000066"/>
                </a:solidFill>
                <a:latin typeface="標楷體"/>
                <a:ea typeface="標楷體"/>
              </a:rPr>
              <a:t>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7416720" cy="5543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打造</a:t>
            </a:r>
            <a:r>
              <a:rPr b="1" lang="zh-TW" sz="4400" spc="-1" strike="noStrike" u="sng">
                <a:solidFill>
                  <a:srgbClr val="cc0000"/>
                </a:solidFill>
                <a:uFillTx/>
                <a:latin typeface="標楷體"/>
                <a:ea typeface="標楷體"/>
              </a:rPr>
              <a:t>學習共同體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1.</a:t>
            </a:r>
            <a:r>
              <a:rPr b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凝聚團隊共識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發展共同理念與願景。</a:t>
            </a:r>
            <a:br>
              <a:rPr sz="4000"/>
            </a:br>
            <a:r>
              <a:rPr b="0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2.</a:t>
            </a:r>
            <a:r>
              <a:rPr b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整合師生社區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投入學生學習與建設。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3.</a:t>
            </a:r>
            <a:r>
              <a:rPr b="1" lang="zh-TW" sz="4000" spc="-1" strike="noStrike">
                <a:solidFill>
                  <a:srgbClr val="cc0000"/>
                </a:solidFill>
                <a:latin typeface="標楷體"/>
                <a:ea typeface="標楷體"/>
              </a:rPr>
              <a:t>完善組織學習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，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展現學校特色與績效。</a:t>
            </a:r>
            <a:r>
              <a:rPr b="0" lang="zh-TW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aa8832</cp:lastModifiedBy>
  <dcterms:modified xsi:type="dcterms:W3CDTF">2012-08-27T01:22:50Z</dcterms:modified>
  <cp:revision>473</cp:revision>
  <dc:subject/>
  <dc:title>初級資訊種子學校 第三次執行情形研討會</dc:title>
</cp:coreProperties>
</file>